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148-4464-42F1-9AC4-A6280C24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922920"/>
            <a:ext cx="786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51D-9089-4779-AB8A-8054F915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92292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31320" y="392292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9FE-DB2B-48FD-B349-3682A54A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1160" y="177336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9040" y="177336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92292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1160" y="392292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9040" y="392292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677-3B18-4CBE-9C14-E3C1B5D3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54B-909A-4A41-8DB0-96CB4A5F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B0E-A24D-4462-9B8B-4298DDF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20D-4F07-49C6-A806-5A784048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A84-04FB-436D-890B-FD707D20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1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1F3-5E36-42B1-8542-D4362B79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92292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1FF-7982-4F9A-B1F3-3004F52C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31320" y="392292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392-4589-4667-854B-44335BD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922920"/>
            <a:ext cx="786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AC8-049A-4E92-8096-7007BD78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D89-D1B5-45E5-8CAD-CC59715BC6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521000"/>
            <a:ext cx="777240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  </a:t>
            </a: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SIR, WE WOULD SEE JESUS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LIFE OF CHRIST, PART 2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2920" y="3357720"/>
            <a:ext cx="5940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0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0:1-12: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8-1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264-94F7-4045-B784-F78AE2D0F7E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34D6F-E4A5-40F6-B94A-06732E5CB4A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50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makes the point that one is either for or against Hi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a woman in the crowd praises Jesus through His mother by calling her blessed, He replies, it is </a:t>
            </a:r>
            <a:r>
              <a:rPr b="0" lang="en-US" sz="2800" spc="-1" strike="noStrike" u="sng">
                <a:solidFill>
                  <a:srgbClr val="ff9966"/>
                </a:solidFill>
                <a:uFillTx/>
                <a:latin typeface="Verdana"/>
              </a:rPr>
              <a:t>more bless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hear God’s word and keep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calls that generation evil. It seeks a sign, and no sign will be given except the sign of Jon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queen of the South and the men of Nineveh will judge and condem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D02-4F81-43F8-896F-DB8EA6330F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06682-8A7B-4DA7-8F6A-7CB88B128697}" type="datetime1">
              <a:rPr lang="en-US"/>
              <a:t>07/31/26</a:t>
            </a:fld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WOE TO THE PHARISEES AND LAWYERS LUKE 11:37-5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699920"/>
            <a:ext cx="78613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 noticed that Jesus hadn’t washed before di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, reading his thoughts said, ”you Pharisees make the outside of the cup and dish clean, but your inward part is full of greed and wicked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were told to give alms to the poor, and in their tithing, don’t omit justice and lov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pronounced woe to them for their love of the chief seats in the synagogue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17B-2043-491C-B81B-BDA3947F22B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BD415-FF9E-4F63-A330-9945FFE50CEA}" type="datetime1">
              <a:rPr lang="en-US"/>
              <a:t>07/31/26</a:t>
            </a:fld>
          </a:p>
        </p:txBody>
      </p: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WOE TO THE PHARISEES AND LAWYERS LUKE 11:37-5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699920"/>
            <a:ext cx="78613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e unto you lawyers! For you load men with burdens hard to bear and won’t lift a finger to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ontinues to berate them, for their fathers killed the prophets and they build the tom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e to the lawyers for taking away the key of knowledge; They wouldn;t enter and hindered those who w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939-C8E4-4296-BF5B-3FB3A17453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E47B5-8C7D-41F1-A8B2-08558AE2EC66}" type="datetime1">
              <a:rPr lang="en-US"/>
              <a:t>07/31/26</a:t>
            </a:fld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WARNINGS AND ENCOURAGEMENTS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LUKE 12:1-12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crisy is the leaven of the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will eventually be rev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ear those who can only kill the body, but Him who, after He has killed,  can cast into 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ss Christ before men and He will confess you before the angels of God, but if you deny Him, He will deny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phemy against the Holy Spirit will not be for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60D-BBCB-4056-BC6F-C0CB3AC30C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DE6BA-E57E-426F-B7A3-455D00CCFE12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PARABLE OF THE RICH FOOL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LUKE 12:13-21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50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from the crowd said: “Teacher, tell my brother to divide the inheritance with m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s, “man, who made Me a judge or an arbiter over you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’s life doesn’t consist in abundant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hen spoke a parable about a certain rich man who had many goods, enough to last many years, but thought only of himself and his pl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night his soul would be required of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rich toward God, not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669-F2B8-4479-B8C5-45440B2FC5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7726C-60FD-4704-8F33-AC69F7077DF8}" type="datetime1">
              <a:rPr lang="en-US"/>
              <a:t>07/31/26</a:t>
            </a:fld>
          </a:p>
        </p:txBody>
      </p:sp>
    </p:spTree>
  </p:cSld>
  <p:transition>
    <p:cover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920000" cy="15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STORIES IN LUK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MISSION OF THE SEVENTY;  LUKE 10:1-2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7280" y="1980720"/>
            <a:ext cx="8483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ends out seventy of His disciples two by two into the various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to be urgent for, “ the harvest is great, but the laborers are few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sent out like lambs among wolves, taking no money, no knapsack or extra sand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ing a house, they are to say, “peace to this ho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man of peace is there, their peace would rest on it, if not it would return to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FBA-FA4C-4142-83F1-BEA988B2FA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79CF8-E267-4526-A89E-BEDC55B62D38}" type="datetime1">
              <a:rPr lang="en-US"/>
              <a:t>07/31/26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920000" cy="15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STORIES IN LUK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MISSION OF THE SEVENTY;  LUKE 10:1-2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7280" y="1591920"/>
            <a:ext cx="848376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are not to go from house to house, but to stay and eat and drink t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they enter a city, they are to heal the sick and say to them “the kingdom of God is near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ould a city not receive them, they are to go into the street and wipe the dust of the city off their feet against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sus pronounces woe to Chorazin and Bethsaida because if the miracles performed there had been done in Tyre and Sidon, they would have repented long 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eventy return with joy, but are told to rejoice because their names were written in hea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5D9-A2F2-44D9-9906-0B8CF2A786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F225E-4080-41BC-A72E-487946286CD1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PARABLE OF THE GOOD SAMARITAN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LUKE 10:25-37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est Jesus, a lawyer asks Him, “Teacher, what shall I do to inherit eternal life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replies, “what is written in the law? What is your reading of it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yer responds, “you shall love the Lord your God with all your heart…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ells him that he has answered right and if he would do it he would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yer,  wanting to justify  himself, asks Jesus, “and who is my neighbor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B27-CE15-44BD-A2D6-F9F060D7A0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5329A-51A3-4316-BA9B-44B1357CD21A}" type="datetime1">
              <a:rPr lang="en-US"/>
              <a:t>07/31/26</a:t>
            </a:fld>
          </a:p>
        </p:txBody>
      </p:sp>
    </p:spTree>
  </p:cSld>
  <p:transition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PARABLE OF THE GOOD SAMARITAN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LUKE 10:25-37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s with a story about a man injured by thieves.  A priest and a Levite pass by without offering help, but a Samaritan happens by, takes pity on him, binds up his wounds after pouring on oil and wine and brings the injured man to an in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now asks, “which of these three was neighbor to him who fell among thieves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yer replied, “he who showed him merc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dds, “go and do likewi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BCD-E81C-4342-99FF-84C2D3FD61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CE213-1F86-4EB1-B782-C92A09FB21FB}" type="datetime1">
              <a:rPr lang="en-US"/>
              <a:t>07/31/26</a:t>
            </a:fld>
          </a:p>
        </p:txBody>
      </p:sp>
    </p:spTree>
  </p:cSld>
  <p:transition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7861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comes to the house of a woman named Mart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has a sister named Mary who sits at Jesus’ feet and hears His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tha, distracted by much serving, asks Jesus to tell Mary to help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said to her, “Martha, Martha, you are troubled about many things, but one thing is needed and Mary has chosen that good part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12A-0D9D-4B29-838A-3E673F4434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1698B-6B7C-48A3-AD3E-03B4DFF0EB9C}" type="datetime1">
              <a:rPr lang="en-US"/>
              <a:t>07/31/26</a:t>
            </a:fld>
          </a:p>
        </p:txBody>
      </p:sp>
    </p:spTree>
  </p:cSld>
  <p:transition>
    <p:randomBa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7861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ce, when Jesus had finished praying, His disciples asked Him to teach them how to p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wanted to know how to pray personally to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gave them the example of what is commonly known as `the Lord’s prayer`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then continues to teach them to be consistent in prayer, to ask for what is needed and the Father will bless with good gi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FE8-8938-499E-B040-5F6F55B7D5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05E8C-630E-4C87-8D88-BD493FE581BE}" type="datetime1">
              <a:rPr lang="en-US"/>
              <a:t>07/31/26</a:t>
            </a:fld>
          </a:p>
        </p:txBody>
      </p:sp>
    </p:spTree>
  </p:cSld>
  <p:transition>
    <p:cover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7861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casts out a demon which was causing a man to be m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he mute spoke, the multitude marve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who were there said, “He casts out demons by Beelzebub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then teaches that a kingdom divided against itself is brought to desolation and a house divided against itself cannot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E10-51A4-400E-8A32-C9C87532BC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4CD47-95C1-42B9-9E47-9C7A9FB80F4D}" type="datetime1">
              <a:rPr lang="en-US"/>
              <a:t>07/31/26</a:t>
            </a:fld>
          </a:p>
        </p:txBody>
      </p:sp>
    </p:spTree>
  </p:cSld>
  <p:transition>
    <p:cover dir="l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7861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lesson taught here is: If Satan is divided against himself, his kingdom will f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sus goes on to speak of a strong man guarding his place and is overcome by one stro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sus also tells of an unclean spirit going out of a man and finding no rest returns with seven others more wicked than him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last state of the man is worse than th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90F-1B31-4CCA-880D-47E5FE8303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B5219-9FBC-4885-9A55-D77901E78C90}" type="datetime1">
              <a:rPr lang="en-US"/>
              <a:t>07/31/26</a:t>
            </a:fld>
          </a:p>
        </p:txBody>
      </p:sp>
    </p:spTree>
  </p:cSld>
  <p:transition>
    <p:cover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y lauderdale</cp:lastModifiedBy>
  <dcterms:modified xsi:type="dcterms:W3CDTF">2006-07-08T01:50:0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